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7871-26A3-4AB3-9219-5ECF7A68E0A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83D-B8ED-4312-A128-27C1B7D764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EEB7-5023-4AD5-A769-83A731AD8DA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3003-C1E7-4D08-A4AE-C63076FC134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E06-48CD-4D4C-8EC7-AC03088EC9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E5C-FBD6-4773-ADA0-98B10C8B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321-2A6D-40F6-AD9A-6C223FB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175-D508-49D7-8E80-20DB49FA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7A0-567D-4C70-BED1-E8386DB4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846-90BF-430D-B0DA-2B82362F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B57-7195-437C-90C6-14A083E4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7A5-4968-4B81-B116-50580D3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360-AD04-4A17-838C-F4DC523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D18-173A-4707-A77C-F0B2F782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108-57CE-41C8-A77F-22A14E9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5A5-CB24-42BD-97E0-AE3C8AC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F13-FDA6-407F-A6EA-0B16FDC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A07-F8E5-45F4-B016-D93DC899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photosynthesis---light-reactions-and-photophosphorylation?playlist=Biology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olcweb/cgi/pluginpop.cgi?it=swf::535::535::/sites/dl/free/0072437316/120072/bio13.swf::Photosynthetic%20Electron%20Transport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otochembgsu.com/students/ma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08/ch8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al Kh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hanacademy.org/#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yclic Electron Flo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hotosynthetic organisms have the components of cyclic 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and plants have added components to the original system to make it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04-03T17:11:01Z</dcterms:modified>
  <cp:revision>89</cp:revision>
  <dc:subject/>
  <dc:title>Slide 1</dc:title>
</cp:coreProperties>
</file>